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9AA8-D159-45A9-915D-6BB3AC3B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33C-45F7-49B2-8C83-D137717C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BE22-B43F-40F9-8B8A-75606763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D84A-5B67-4CBB-8D57-E639C056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25DE-B09A-4276-9D15-C139A9F5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FC41-E123-48EC-BC90-53AACE7D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2EBF-AAE0-4094-A7DB-29EF9D3D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ECBC-C8A7-4A56-A955-6F5B633B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5A57-5D45-40A0-931B-ABAAF14F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CE26-071C-45F6-B425-EB43E177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33D7-D9E3-4669-A5EE-696CAC3F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0B53-785D-4188-8DEA-8E7CCFDB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13C8-FB2B-45CC-AB16-C63D6EBC1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5292720" y="-1111320"/>
            <a:ext cx="15486120" cy="12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3:18:35Z</dcterms:created>
  <dc:creator>Juergen Schmitz</dc:creator>
  <dc:description/>
  <dc:language>en-US</dc:language>
  <cp:lastModifiedBy>Juergen Schmitz</cp:lastModifiedBy>
  <dcterms:modified xsi:type="dcterms:W3CDTF">2006-05-23T13:18:55Z</dcterms:modified>
  <cp:revision>1</cp:revision>
  <dc:subject/>
  <dc:title>Folie 1</dc:title>
</cp:coreProperties>
</file>